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E8CF-44D8-49BA-A9FB-ADFC0069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0B79-0E9F-49C3-BF17-F31F88E5FB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483-6BE5-4A18-A1E8-318E772B92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6D49-4A93-46A4-A5B3-C8BC88DA7F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4E7-50B9-499B-AEB1-A253BA99D4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A23-56D0-4FAA-9FFA-0786440C47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E034-9FB7-478F-80E4-FE75276CDD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30B-1763-4E2E-AC91-FBAAE8854B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B2D-CC8A-4B77-B5EF-CF0A5BDAA3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F68E-9608-48B4-9507-11DDC94B0D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B7D-96B4-40E8-B926-3B0A5F6D9B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74FE-B6A2-41DD-A654-50A86BCDD3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98EB-C7DE-4D54-ABFF-DD3B6508D5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DCE8-FAA7-40B0-BB63-D362B1203B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5DEF-6E14-4EB8-B9EA-55A0C597FC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3EBD-4CD3-49D9-B9BE-D4DFCE7C2B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8133-662A-4DF1-883F-5434C9E415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9B89-D78C-4902-8333-AA11EC9754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083B-D513-439A-8728-263EFB0158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A648-BE59-4CF9-81F0-7DED31064B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7BC-7D3F-433E-8478-E0E9D656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F3C-D2A1-4D8B-8BC6-7372829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90-2B07-42E6-AFA5-6E20695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A59-A2F2-4C93-A33B-B253E597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CDA4-B58E-4B04-B733-102D12DC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B0A-0AD8-4F8D-A873-162D2FEB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4B8-78F7-47D1-B377-540BD3D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51A-13E5-447B-A636-76D5AFC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1EB-04C4-406F-877B-C88F9013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A9CF-86AF-4105-8584-BB9EE1FE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672-D6DF-4BAB-BCCD-99304AC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271-61AF-4F93-9834-D741903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1FF1-8EC1-45CD-AC3D-33A3965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E632-00B3-4D40-8802-7E05A58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6EA-CC0A-49BD-B4AF-EDDA62D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20F-64BE-4AA1-B7C0-F1D36B68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A18-AEA1-4C7D-A9D0-54364050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9630-1D7B-4317-9E2A-4C4768FC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CD99-BE29-4378-BF5D-27787199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2069-90ED-472A-B240-D590FBD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7BE0-DECF-4100-8565-99A4AF93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0A55-1293-453E-B8C1-DDEEBB8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7E2-D0C4-44D0-A05E-9D23BDAC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BCFD-63ED-4FE8-B48E-96B01DF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3221-EE73-4D94-9AD1-2EDA77F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B7A3-740A-4CF6-AA59-92B7CFD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D673-11ED-4CC0-B57A-DC51E33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CBC2-AB24-450C-8400-D2F3437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B2A1-8E7F-40E6-A935-5CD8ED02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A027-A1FB-4FE0-A734-3A460334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075E-BA8B-475B-BA5D-C2F948F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D2E4-9D90-4661-A6D9-0FD99053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ED35-87AA-4C5E-AAE3-F5AE4AFC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0B5-DEC9-4387-9F2E-6A879BC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FE57-56ED-4C95-8BAA-49F516BE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385C-E445-4281-940A-E41CF6C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230F-7B17-4D0D-992C-437AB80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C099-A661-4DF1-BE66-98E041A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5BB3-A9A3-4AD1-BDDA-A064F69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9773-5D0D-4D5E-8BB8-6222941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92E6-8F7E-46C6-B25D-03A77F38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3F0C-4B2C-4BBB-9C97-F409910F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3281-8FD0-4C22-A0D1-655B6A7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C80D-A309-46B7-B5C1-252C020E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2BD-3215-4AC7-84FC-C87F4A27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1ABC-1085-4EFE-BD8A-6E0AFF9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CA35B-3EBF-4E04-BDCE-0F9588A7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C8C39-91A5-4EEC-BDF6-D242424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1875-41AD-45F0-84C8-4529AE7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42CE-29F0-4A48-A67D-46ADCA24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4A8A-AC40-4011-B441-09B535C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654C-B239-4B21-A867-591CD24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F1E5-C511-4B57-AFEC-DF49A33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6DCB-1F16-4AF2-908C-8518236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310B-4DC8-41B7-8AFA-D60E2112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2F4-7536-45F8-BB35-1F342EB1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68EF4-2E2F-4F0C-AE51-E87F42EF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273B7-4999-4922-B555-46A80E50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16E1A-85B8-4CE2-86E1-4CBF69A4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EAAD-4BD3-4B98-9E17-13E1726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83C1D-49BD-40DE-B2F4-C00904D0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D3262-66EC-44D6-8BDA-EAD9A92B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35FC-E3BF-412C-950D-DCB0777B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2C93-4D3B-484B-8C10-16B92BD4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1900-8A92-4BA8-9493-A90588B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CEC94-9AF5-4685-9802-ACD634A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1F6-DA4B-4B6C-B9C2-3E58796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AAE6-7F4C-4E9A-9936-047DDB2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5A7D7-208A-406B-938E-C352C23B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172AE-E421-4D47-B5EF-A8E22E94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1BDE-B5D2-402C-B6C9-A7644DF4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A4CC-E5F7-43F4-A783-71E26DAF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36C13-F1F1-4526-AA53-B9EB4EA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311E-F30D-4A10-ACBD-8DBF1142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EA02-4CD3-4C31-9777-2355B14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2A64A-7B07-4AB5-863F-FE2F06B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D5A2-9F50-443D-B4BA-6F682F2B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00E-4E71-4C87-82BC-7941BE6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A291-7120-4BBD-A59B-C6277FC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5E39-C84D-4B39-8B43-E57CCF8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BAAB-8590-46C1-AD52-05C91C3E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D90AF-2848-491D-B35D-ACD02B41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41442-39DE-4F7A-A588-C9685064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6F9-2381-4034-BA9C-5F302AD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339-A899-46C7-823B-AF561392D8B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3C50-5CA5-4F96-943A-885FC3C95A8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E4D-CE6E-4234-9D73-0111254DD8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1B2C-95B4-4F34-9373-2B093C73FFB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9273-A70F-4FA0-84DB-E8C8F7E029E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B04-A350-49B3-96E7-BF8C1252C9A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ACC-CEC9-4712-AB86-783A54156D4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682560" y="1420920"/>
            <a:ext cx="7785000" cy="190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Writting_books"/>
          <p:cNvPicPr/>
          <p:nvPr/>
        </p:nvPicPr>
        <p:blipFill>
          <a:blip r:embed="rId2"/>
          <a:stretch/>
        </p:blipFill>
        <p:spPr>
          <a:xfrm>
            <a:off x="3733920" y="2971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685800" y="611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Garo,C. (2007).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eaching educational technology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Manila: Rex Publishing Company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aracens or the Arabs among the Moors of Spa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im of education was search for knowledge and the application of scientific facts to their daily liv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curriculum was the most organized and complete in the elementary, secondary, and collegiate leve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universities and libraries were the models in the entire Europe because they invented the printing pre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riginated the scientific method of teac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naissance Peri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rn times beg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nes of concern: intellectual, aesthetic, and scientif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vements: humanism, disciplinism, and rationalis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tionalism: contributed to the development of educational technology especially along theories and pract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4" descr="Lady_MacBeth_2"/>
          <p:cNvPicPr/>
          <p:nvPr/>
        </p:nvPicPr>
        <p:blipFill>
          <a:blip r:embed="rId1"/>
          <a:stretch/>
        </p:blipFill>
        <p:spPr>
          <a:xfrm>
            <a:off x="7238880" y="30492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Locke: nature of the child’s mind at birth (tabula ras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ann Amos Comenius: developed the first picture book known as Orbis Pictus (The World in Picture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ioneer in instructional technology develop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ria Montessori: use of multi-sensory materials in tea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ge of Natur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Jean Jacques Rousseau: authored the book Em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im of education was the preservation of the natural goodness of the individual and the formation of society based upon the recognition of natural individual righ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bartian Method of Teaching: preparation, presentation, comparison and abstraction, generalization and appl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stallozi: believed that teaching is more effective if it proceeds from concrete to abstract, hence the use of actual and real objects that involve most of the sen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ebel: father of kindergar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hasized the use of actual objects which could be manipulated by the lear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mmended the use of play and so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9</a:t>
            </a:r>
            <a:r>
              <a:rPr b="0" lang="en-US" sz="4000" spc="-1" strike="noStrike" baseline="30000">
                <a:solidFill>
                  <a:srgbClr val="c1eeff"/>
                </a:solidFill>
                <a:latin typeface="Consolas"/>
              </a:rPr>
              <a:t>th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Centu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Dewey: formulated the scientific theory of learning; pragmat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ward Thorndike: three laws of learning; connection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ved the way to the development of effective educational technology including the production of books, use of blackboards, and improvement of writing imple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tography was invented giving way to a movement called visual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sual media became widely accepted in 19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dio-visual media texts was publish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26, educational films were used as instructional med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32, the first instructional TV program was aired at the State University of Iow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4" descr="TV"/>
          <p:cNvPicPr/>
          <p:nvPr/>
        </p:nvPicPr>
        <p:blipFill>
          <a:blip r:embed="rId1"/>
          <a:stretch/>
        </p:blipFill>
        <p:spPr>
          <a:xfrm>
            <a:off x="7315200" y="358128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6mm sound motion picture was developed\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uring the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orld War: movies, filmstrips, radio, and other pictorial devices were used in military train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grammed instruction by Skin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loom’s taxonomy of educational objecti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odularized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emporary Ti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ultimedia resources and computers in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tenance of an educational media c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sion and enrichment of curricular offerings to include courses in computer applic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CA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ultimedia presentations in the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al organizations are linking up with TE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Internet and E-mail for fast-paced interactive learning, communication, and search for inform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 literacy programs for ISYs and OS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s became more user-friend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Ancient Civi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pointed sticks to inscript signs and symbols on the lea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knives to inscript signs and symbols on the bark of tre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809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gyptians (3100 B.C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ed a system of picture writing called hieroglyph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eroglyphics – may represent the objects for which they stand for or represent a sound or group of sou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ribes – group of men trained on the art of writing and came to be the country’s chronicler of event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457200" y="228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out 3100 B.C.  Devised a  a system of picture writ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209680" y="762120"/>
            <a:ext cx="449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6"/>
          <p:cNvSpPr txBox="1"/>
          <p:nvPr/>
        </p:nvSpPr>
        <p:spPr>
          <a:xfrm>
            <a:off x="45720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533520" y="1295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ecff"/>
                </a:solidFill>
                <a:latin typeface="Garamond"/>
              </a:rPr>
              <a:t>Represent the objects for which they stand for and represent a sound or group of sound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83822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ncient Gree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artan Education – emphasized the development of the physical body coupled with discip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Boy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exercises and activities that promoted bodily strength, endurance, and vit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ctivities: dancing, wrestling, horseback riding, swimming, gymnas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idonomus: the boys’ teacher; a military commander in the public barrack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irl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stayed at home with their mothers and were taught housekeepi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the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rst to recognize the right of the individual to develop to the full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lieved that the mind and the body has a strong relationsh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concern of music schools, grammar schools, and public gymnasiums / palaestra is developing the mind and the bo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phis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wandering schol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emphasized cognitive rules, systematic arrangement of subject matter, use of instructional technologies, design and implementation of effective instructional materi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dieval E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stablishment of the Medieval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eror Frederick I of Bologna in 1158 chartered the first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grees offered were expanded which required students to engage in more in depth studies and to write their theses, defend them in public before the deans, facultas, and rect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51:21Z</dcterms:created>
  <dc:creator>User</dc:creator>
  <dc:description/>
  <dc:language>en-US</dc:language>
  <cp:lastModifiedBy>msu-iit</cp:lastModifiedBy>
  <dcterms:modified xsi:type="dcterms:W3CDTF">2011-06-28T03:45:28Z</dcterms:modified>
  <cp:revision>52</cp:revision>
  <dc:subject/>
  <dc:title>History of Educational Technology</dc:title>
</cp:coreProperties>
</file>